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1AF-0951-40E6-BBFE-8D9A3DF9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C4E-B2EE-4818-859A-C5497AD307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1285-7635-4A6C-B186-75E035940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88A-B9A0-471D-ADD7-8BBA34BDB7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B4AA-9215-4AC4-821E-238D323255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A236-E8CF-446E-A743-9AE75CC385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AAE9-B873-4770-B820-325C356D95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A10-10BB-4FFF-9F42-8C32B5FEF3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60A0-7A38-49B0-8C12-EE38F0FB69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3389-0C3D-43A4-8FC5-D0E2FCC2F3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507B-6680-4FD6-BB9A-68EDAA2FF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FB4-B2F0-4D18-8F0D-72A019418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DA00-2C6D-4B82-9D1C-7A49C00E43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B3C-9515-4CDB-A563-8A48BBEF67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A9D-3B64-405B-A420-9FD584F22F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A6A-E4CB-4781-8E3F-987C8363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5AB-1FA9-4103-8F79-30C17D68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6FE-5ECE-49B7-85EC-A68DBFB9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2CF-3AAA-4F81-AE9F-582C784F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575-9646-4ED6-871A-FDA0A46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1D3-7629-4848-8BC7-4050C69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00D-5C5A-4430-8C2B-7FB5365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707-CE34-481D-8C90-85A9CB00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2FB-F4CC-42C6-BE88-62841FA7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176-73A0-4459-9C11-FA32980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2E3-67A6-44A6-B3FF-C0F4885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6FD-8D97-4A74-8646-BBBD207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E9E4-62C1-4A51-A0BB-C4BBB37A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ideo.google.com/videoplay?docid=2408951936415169196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819520"/>
            <a:ext cx="7772400" cy="12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example of a biogeochemical cy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4040"/>
            <a:ext cx="77724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 The B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ril 29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s affect the 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79680"/>
            <a:ext cx="9144000" cy="52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-Bosch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ynthetic production of fertilizers by combining nitrogen and hydrogen to synthesize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ally changed the 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re fixing as much nitrogen as natur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emissions of nitrogen-containing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and potassium in soil washed out by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fied water and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d more nitrogen into plants and terrestr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Reduced biodiversity of plants adapted to low-nitrogen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hanged estuaries and coastal ecosystems and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B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3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9144000" cy="30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to happen to the gaseous form of Nitrogen before it can be utilized by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for Wednesday’s test on biogeochemical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Bel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4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some components of the water cycl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ydrological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deo on Carbon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ydrolog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2240" y="1531440"/>
            <a:ext cx="8788320" cy="413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is essential for biochemical reactions and is involved in nearly every environmen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Hydrologic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marizes how liquid, gaseous and solid water flows throug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s are the main reser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Eva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ater moves from aquatic and land systems to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ranspi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lease of water vapor by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Precipi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densation of water vapor as rain or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ydrolog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7_17"/>
          <p:cNvPicPr/>
          <p:nvPr/>
        </p:nvPicPr>
        <p:blipFill>
          <a:blip r:embed="rId1"/>
          <a:stretch/>
        </p:blipFill>
        <p:spPr>
          <a:xfrm>
            <a:off x="954000" y="1241280"/>
            <a:ext cx="78091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35960"/>
            <a:ext cx="86853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mpacts on hydrolog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2361960"/>
            <a:ext cx="878832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ming rivers increases evaporation and infil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ing the surface and vegetation increases runoff and e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ing water on agricultural fields depletes rivers, lakes and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forests and vegetation reduces transpiration and lowers water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ting pollutants changes the nature of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threatening impact is overdrawing groundwater for drinking, irrigation, and industri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8640" y="2209320"/>
            <a:ext cx="8685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uman Impacts on 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200" y="82440"/>
            <a:ext cx="86853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ents circulate through ec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914400"/>
            <a:ext cx="9144000" cy="46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atter is circulated continually in an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Nutrient (biogeochemical)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movement of nutrients through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, hydrosphere, lithosphere, and bi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Pool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reservoir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here nutrients reside for varying amount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ovement of nutrients among pools, which change over time and are influenced by huma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ols that release more nutrients than they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S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cept more nutrients than the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8200" y="4320"/>
            <a:ext cx="868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5680" y="990720"/>
            <a:ext cx="8788320" cy="46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is found in carbohydrates, fats, proteins, b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 Carbon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escribes the routes that carbon atoms take throug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ynthesis moves carbon from the air to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 returns carbon to the air and o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ition returns carbon to the sediment, the largest reservoir of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it may be converted into 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he world’s oceans are the second largest reservoir of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7_12"/>
          <p:cNvPicPr/>
          <p:nvPr/>
        </p:nvPicPr>
        <p:blipFill>
          <a:blip r:embed="rId1"/>
          <a:stretch/>
        </p:blipFill>
        <p:spPr>
          <a:xfrm>
            <a:off x="1752480" y="1143000"/>
            <a:ext cx="632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s affect the phosphoru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2240" y="2339280"/>
            <a:ext cx="8788320" cy="25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ng rocks for fertilizer moves phosphorus from the soil to wa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water discharge also releases phospho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Runoff containing phosphorus causes eutrophication of aquat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IOGEOCHEMICAL CYCLE IS MAINLY CONSTRICTED TO THE LITHOSP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30560"/>
            <a:ext cx="7772400" cy="190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t the Be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ril 30,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63520"/>
            <a:ext cx="8153640" cy="53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itrogen comprises 78% of our atmosphere, and is contained in proteins, DNA and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 Nitrogen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escribes the routes that nitrogen atoms take throug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 gas is inert and cannot be used by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 Nitrogen fix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itrogen gas is combined (fixed) with hydrogen by nitrogen-fixing bacteria to become amm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u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7_15"/>
          <p:cNvPicPr/>
          <p:nvPr/>
        </p:nvPicPr>
        <p:blipFill>
          <a:blip r:embed="rId1"/>
          <a:stretch/>
        </p:blipFill>
        <p:spPr>
          <a:xfrm>
            <a:off x="4343400" y="4495680"/>
            <a:ext cx="40384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ification and denit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2240" y="947520"/>
            <a:ext cx="8788320" cy="52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itr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acteria that convert ammonium ions first into nitrite ions then into nitrate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can take up these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obtain nitrogen by eating plants or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nitrifying bac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nvert nitrates in soil or water to gaseous nitrogen, releasing it back into the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7_14"/>
          <p:cNvPicPr/>
          <p:nvPr/>
        </p:nvPicPr>
        <p:blipFill>
          <a:blip r:embed="rId1"/>
          <a:stretch/>
        </p:blipFill>
        <p:spPr>
          <a:xfrm>
            <a:off x="1735200" y="1127160"/>
            <a:ext cx="6265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20:59:42Z</dcterms:created>
  <dc:creator>S'elena Faye Jones</dc:creator>
  <dc:description/>
  <dc:language>en-US</dc:language>
  <cp:lastModifiedBy>S'elena Faye Jones</cp:lastModifiedBy>
  <dcterms:modified xsi:type="dcterms:W3CDTF">2010-05-03T21:00:02Z</dcterms:modified>
  <cp:revision>1</cp:revision>
  <dc:subject/>
  <dc:title> What is an example of a biogeochemical cycle?</dc:title>
</cp:coreProperties>
</file>